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52F5E8-FD24-4937-9C3A-22BFC225A2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5DAC6BF-5DA4-42FC-B4E2-A6A2125CDD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CCEB1D6-09A1-4894-BC08-2DBAF1FA5C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F234C0C-ED24-493F-8725-7145A56BC9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1E01576-E1EF-4F74-AD45-A5A154263D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9A3C146-59A2-4A06-A2C4-A3B812A82D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B9B10FC-11FC-4324-807C-76058DC30D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EFBB26D-86F5-4302-A635-E7F4672863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92508B5-ABB9-4D4C-87E9-4916746793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7E0A68-4556-4A90-8508-B9C584C003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B2C0623-D1FA-49FB-B743-C0777DEBE3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3C9950-0ABF-4CCA-8338-BA745E4784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06D54-3164-41CA-AB53-875700DF16E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472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六章  </a:t>
            </a:r>
            <a:br>
              <a:rPr sz="4000"/>
            </a:br>
            <a:r>
              <a:rPr b="1" lang="zh-CN" sz="4000" spc="-1" strike="noStrike">
                <a:solidFill>
                  <a:srgbClr val="ffffff"/>
                </a:solidFill>
                <a:latin typeface="Verdana"/>
                <a:ea typeface="宋体"/>
              </a:rPr>
              <a:t>社区卫生保健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李德玲  田丽影</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887400" y="2028960"/>
            <a:ext cx="6997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3"/>
          <p:cNvSpPr/>
          <p:nvPr/>
        </p:nvSpPr>
        <p:spPr>
          <a:xfrm>
            <a:off x="1044720" y="1341360"/>
            <a:ext cx="6840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坚持人人参与，自觉履行健康责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坚持科学态度，不断完善知识结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坚持以人为本，尊重所有服务对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坚持以基层和农村为重点，普及健康知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针对某社区居民高血压患病率偏高的实际情况，进行健康教育方案的设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二节：家庭病床和康复护理伦理</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的护理及其伦理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概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家庭病床的概念   家庭病床（</a:t>
            </a:r>
            <a:r>
              <a:rPr b="1" lang="en-US" sz="2400" spc="-1" strike="noStrike">
                <a:solidFill>
                  <a:srgbClr val="8ac8de"/>
                </a:solidFill>
                <a:latin typeface="Verdana"/>
                <a:ea typeface="宋体"/>
              </a:rPr>
              <a:t>family bed</a:t>
            </a:r>
            <a:r>
              <a:rPr b="1" lang="zh-CN" sz="2400" spc="-1" strike="noStrike">
                <a:solidFill>
                  <a:srgbClr val="8ac8de"/>
                </a:solidFill>
                <a:latin typeface="Verdana"/>
                <a:ea typeface="宋体"/>
              </a:rPr>
              <a:t>）是医疗机构对适宜在家庭环境下进行检查、治疗和护理的患者在其家里建立的病床，是我国家庭护理的主要服务形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问题讨论：社会对家庭病床的需求趋势；家庭病床适合的患者类别；家庭病床的护理人员与医疗机构中的护理人员相比工作有什么重要区别？伦理道德的要求是否一致？</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847800" y="1650960"/>
            <a:ext cx="6316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3"/>
          <p:cNvSpPr/>
          <p:nvPr/>
        </p:nvSpPr>
        <p:spPr>
          <a:xfrm>
            <a:off x="612720" y="220500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家庭病床护理工作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护理内容全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患关系密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道德要求更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家庭病床护理工作的特点对护理人员有什么职业责任、职业道德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052640" y="1657440"/>
            <a:ext cx="28000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3"/>
          <p:cNvSpPr/>
          <p:nvPr/>
        </p:nvSpPr>
        <p:spPr>
          <a:xfrm>
            <a:off x="612720" y="1339920"/>
            <a:ext cx="7345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家庭病床护士的职责</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执行医嘱，准时到患者家中进行各种治疗和护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细心观察患者的病情变化，发现问题及时联系报告主管医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患者病情发生突变时，协助患者转院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加强与患者和家属的沟通交流，做好心理护理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发现传染病患者及时登记，做好疫情报告，指导家属并参与消毒隔离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828720" y="1484280"/>
            <a:ext cx="747216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家庭病床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尊重患者，一视同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勤奋进取，精益求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遵守诺言，按时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注意保密，言行谨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明确目标，团结协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6</a:t>
            </a:r>
            <a:r>
              <a:rPr b="0" lang="zh-CN" sz="2400" spc="-1" strike="noStrike">
                <a:solidFill>
                  <a:srgbClr val="046ca6"/>
                </a:solidFill>
                <a:latin typeface="Arial"/>
                <a:ea typeface="宋体"/>
              </a:rPr>
              <a:t>）规范服务，慎独自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发挥你的道德想象力，讲述违背上述各条规范可能发生的故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973080" y="1700280"/>
            <a:ext cx="7199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由案例看家庭护理中护理人员恪守职业道德规范的重要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材料：一起家庭输液致患者死亡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患者，男，</a:t>
            </a:r>
            <a:r>
              <a:rPr b="0" lang="zh-CN" sz="1800" spc="-1" strike="noStrike">
                <a:solidFill>
                  <a:srgbClr val="046ca6"/>
                </a:solidFill>
                <a:latin typeface="Arial"/>
                <a:ea typeface="宋体"/>
              </a:rPr>
              <a:t>48</a:t>
            </a:r>
            <a:r>
              <a:rPr b="0" lang="zh-CN" sz="1800" spc="-1" strike="noStrike">
                <a:solidFill>
                  <a:srgbClr val="046ca6"/>
                </a:solidFill>
                <a:latin typeface="Arial"/>
                <a:ea typeface="宋体"/>
              </a:rPr>
              <a:t>岁。早晨起床后畏寒、发热，由家人请社区卫生服务中心的医生到家里诊疗。医生诊断为“上呼吸道感染”，处方药物有青霉素钠、三磷酸腺苷钠、肌苷、维生素</a:t>
            </a:r>
            <a:r>
              <a:rPr b="0" lang="zh-CN" sz="1800" spc="-1" strike="noStrike">
                <a:solidFill>
                  <a:srgbClr val="046ca6"/>
                </a:solidFill>
                <a:latin typeface="Arial"/>
                <a:ea typeface="宋体"/>
              </a:rPr>
              <a:t>C</a:t>
            </a:r>
            <a:r>
              <a:rPr b="0" lang="zh-CN" sz="1800" spc="-1" strike="noStrike">
                <a:solidFill>
                  <a:srgbClr val="046ca6"/>
                </a:solidFill>
                <a:latin typeface="Arial"/>
                <a:ea typeface="宋体"/>
              </a:rPr>
              <a:t>、维生素</a:t>
            </a:r>
            <a:r>
              <a:rPr b="0" lang="zh-CN" sz="1800" spc="-1" strike="noStrike">
                <a:solidFill>
                  <a:srgbClr val="046ca6"/>
                </a:solidFill>
                <a:latin typeface="Arial"/>
                <a:ea typeface="宋体"/>
              </a:rPr>
              <a:t>B</a:t>
            </a:r>
            <a:r>
              <a:rPr b="0" lang="zh-CN" sz="1200" spc="-1" strike="noStrike">
                <a:solidFill>
                  <a:srgbClr val="046ca6"/>
                </a:solidFill>
                <a:latin typeface="Arial"/>
                <a:ea typeface="宋体"/>
              </a:rPr>
              <a:t>6</a:t>
            </a:r>
            <a:r>
              <a:rPr b="0" lang="zh-CN" sz="1800" spc="-1" strike="noStrike">
                <a:solidFill>
                  <a:srgbClr val="046ca6"/>
                </a:solidFill>
                <a:latin typeface="Arial"/>
                <a:ea typeface="宋体"/>
              </a:rPr>
              <a:t>、地塞米松及</a:t>
            </a:r>
            <a:r>
              <a:rPr b="0" lang="zh-CN" sz="1800" spc="-1" strike="noStrike">
                <a:solidFill>
                  <a:srgbClr val="046ca6"/>
                </a:solidFill>
                <a:latin typeface="Arial"/>
                <a:ea typeface="宋体"/>
              </a:rPr>
              <a:t>5%</a:t>
            </a:r>
            <a:r>
              <a:rPr b="0" lang="zh-CN" sz="1800" spc="-1" strike="noStrike">
                <a:solidFill>
                  <a:srgbClr val="046ca6"/>
                </a:solidFill>
                <a:latin typeface="Arial"/>
                <a:ea typeface="宋体"/>
              </a:rPr>
              <a:t>葡萄糖注射液。家属到社区卫生中心取药后，值班护士到家里为患者输液。在青霉素过敏性试验结果呈阴性后，护士首先输入三磷酸腺苷钠等药物，把青霉素药物配液好后，挂在第一瓶药液旁边，然后，离开患者家庭回到社区卫生服务中心。在第一瓶药液输液完毕后，患者家属把输液器换到第二瓶液体上。继续输液</a:t>
            </a:r>
            <a:r>
              <a:rPr b="0" lang="zh-CN" sz="1800" spc="-1" strike="noStrike">
                <a:solidFill>
                  <a:srgbClr val="046ca6"/>
                </a:solidFill>
                <a:latin typeface="Arial"/>
                <a:ea typeface="宋体"/>
              </a:rPr>
              <a:t>300</a:t>
            </a:r>
            <a:r>
              <a:rPr b="0" lang="en-US" sz="1800" spc="-1" strike="noStrike">
                <a:solidFill>
                  <a:srgbClr val="046ca6"/>
                </a:solidFill>
                <a:latin typeface="Arial"/>
                <a:ea typeface="宋体"/>
              </a:rPr>
              <a:t>ml</a:t>
            </a:r>
            <a:r>
              <a:rPr b="0" lang="zh-CN" sz="1800" spc="-1" strike="noStrike">
                <a:solidFill>
                  <a:srgbClr val="046ca6"/>
                </a:solidFill>
                <a:latin typeface="Arial"/>
                <a:ea typeface="宋体"/>
              </a:rPr>
              <a:t>，患者出现憋闷、呕吐症状，并面色青紫，呼唤不应。患者家属迅速把患者送到社区卫生服务中心，值班医生检查后，确认患者死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尸体解剖证明，患者的死因为输液过程中发生的空气栓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思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家庭输液治疗中，护士应注意哪些事项？</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2</a:t>
            </a:r>
            <a:r>
              <a:rPr b="0" lang="zh-CN" sz="1800" spc="-1" strike="noStrike">
                <a:solidFill>
                  <a:srgbClr val="046ca6"/>
                </a:solidFill>
                <a:latin typeface="Arial"/>
                <a:ea typeface="宋体"/>
              </a:rPr>
              <a:t>．在家庭病床管理和护理过程中，护士应遵守哪些伦理规范？</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814320" y="1413000"/>
            <a:ext cx="728676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简要分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在家庭治疗中，护理人员应严格恪守护理技术操作法规范和伦理规范，履行职责；认真执行医嘱，准时、及时地进行各种治疗和护理；细心观察患者病情的变化，发现问题及时处理。在家庭病床服务中，护理人员要和患者及家属沟通交流，普及相关的知识和技术，指导家属进行简单的操作护理。并规范服务，严格自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2</a:t>
            </a:r>
            <a:r>
              <a:rPr b="0" lang="zh-CN" sz="1800" spc="-1" strike="noStrike">
                <a:solidFill>
                  <a:srgbClr val="046ca6"/>
                </a:solidFill>
                <a:latin typeface="Arial"/>
                <a:ea typeface="宋体"/>
              </a:rPr>
              <a:t>）案例中，护士没有违反青霉素等易过敏药物使用的操作规程，做皮试后才使用的。患者的死亡不是青霉素过敏导致的，而是由于患者家属在换输液药瓶时不规范操作而引起空气栓塞的结果。如果护理人员在场，是完全可能避免事故的发生的。那么，护理人员是否应该一直在患者家属看护输液直到输液完成呢？护理人员的不在场是否应该免责呢？</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684360" y="1657440"/>
            <a:ext cx="75610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在家庭病床的治疗中，护理人员应该在患者家中执行并监督整个治疗过程，应该但不现实。护理人员不在现场而发生了医疗差错或事故，护理人员也不能完全免责。家庭病床的护士数量不足。在家庭输液中，有条件的话，护理人员尽量陪护，一是有利于观察病情；二是起到监督作用，防止患者及其家属不规范操作或其他人为因素而导致的不良反应；三是可以减轻患者及家属的心理压力，也可以减轻护理人员因不在场所引起心理不安，使输液过程顺利完成。但如果患者多，护理人员缺乏导致的不能陪同输液全程，那么，输液过程发生的意外事故，怎么处理？护理人员是不是完全免责或者承担什么样的责任？应该视具体情况而定，最好是护患双方事前签订居家输液治疗的契约。</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795240" y="1495440"/>
            <a:ext cx="7161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4</a:t>
            </a:r>
            <a:r>
              <a:rPr b="0" lang="zh-CN" sz="1800" spc="-1" strike="noStrike">
                <a:solidFill>
                  <a:srgbClr val="046ca6"/>
                </a:solidFill>
                <a:latin typeface="Arial"/>
                <a:ea typeface="宋体"/>
              </a:rPr>
              <a:t>）具体到本案例，双方没有签订知情同意书等合约。但是，通常情况下，护理伦理学强调护理人员在家庭输液治疗中，应该做到以人为本，精益求精，健康教育等多方面的责任和道德义务。护理人员应该意识到患者及家庭对静脉输液的知识往往一知半解，应向患者及家属进行输液知识的宣传和讲解，明确注意事项并教会换液，拔出针头的方法等。输液穿刺完毕后，应观察</a:t>
            </a:r>
            <a:r>
              <a:rPr b="0" lang="en-US" sz="1800" spc="-1" strike="noStrike">
                <a:solidFill>
                  <a:srgbClr val="046ca6"/>
                </a:solidFill>
                <a:latin typeface="Arial"/>
                <a:ea typeface="宋体"/>
              </a:rPr>
              <a:t>15min</a:t>
            </a:r>
            <a:r>
              <a:rPr b="0" lang="zh-CN" sz="1800" spc="-1" strike="noStrike">
                <a:solidFill>
                  <a:srgbClr val="046ca6"/>
                </a:solidFill>
                <a:latin typeface="Arial"/>
                <a:ea typeface="宋体"/>
              </a:rPr>
              <a:t>无异常后方可离去。同时，给出自己的通讯联系方式，如果出现危急情况，医护人员能够及时给予指导，并在最短时间内赶到。如果知识普及不到位，细节没落实，护理人员仍然要承担相应的责任。</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757080" y="164772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000" spc="-1" strike="noStrike">
                <a:solidFill>
                  <a:srgbClr val="046ca6"/>
                </a:solidFill>
                <a:latin typeface="Arial"/>
                <a:ea typeface="宋体"/>
              </a:rPr>
              <a:t>5</a:t>
            </a:r>
            <a:r>
              <a:rPr b="0" lang="zh-CN" sz="2400" spc="-1" strike="noStrike">
                <a:solidFill>
                  <a:srgbClr val="046ca6"/>
                </a:solidFill>
                <a:latin typeface="Arial"/>
                <a:ea typeface="宋体"/>
              </a:rPr>
              <a:t>）本案例中，护理人员在输液穿刺成功后，配好输液体后就匆忙离开了。虽然嘱咐患者家属自行换液，但没有教会相关的操作规程和提醒注意事项，导致悲剧的发生，应承担相应的道德责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 习 目 标</a:t>
            </a:r>
            <a:endParaRPr b="0" lang="en-US" sz="28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复述预防接种和健康教育的目的和意义。</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阐述家庭病床和康复护理的概念。</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说明预防接种、健康教育、家庭病床和康复护理等对护士的伦理要求。</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在社区卫生保健实践中，践行预防接种、健康教育、家庭病床和康复护理的伦理规范。</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正确处理预防接种、健康教育、家庭病床、康复护理中的道德关系。</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971640" y="1197000"/>
            <a:ext cx="7003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及其伦理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康复护理概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护理的概念    康复护理（</a:t>
            </a:r>
            <a:r>
              <a:rPr b="0" lang="zh-CN" sz="2400" spc="-1" strike="noStrike">
                <a:solidFill>
                  <a:srgbClr val="046ca6"/>
                </a:solidFill>
                <a:latin typeface="Arial"/>
                <a:ea typeface="宋体"/>
              </a:rPr>
              <a:t>rehabilitation nursing</a:t>
            </a:r>
            <a:r>
              <a:rPr b="0" lang="zh-CN" sz="2400" spc="-1" strike="noStrike">
                <a:solidFill>
                  <a:srgbClr val="046ca6"/>
                </a:solidFill>
                <a:latin typeface="Arial"/>
                <a:ea typeface="宋体"/>
              </a:rPr>
              <a:t>）是在康复医学理论指导下，经过大量的护理实践基础上逐步发展起来的。康复护理综合应用一般护理及各科专门的护理技术，对残疾者、老年病患者、慢性病导致身体功能障碍者等进行康复指导和训练，削弱致残因素的作用，预防残疾的发展及继发性伤残，提高身体活动能力，力争达到患者基本生活能自理、重新参加社会活动的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医学与康复护理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833400" y="1657440"/>
            <a:ext cx="654696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康复护理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目标整体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理过程连续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工作模式协作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工作内容的综合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认识康复护理的平凡与崇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900000" y="1828800"/>
            <a:ext cx="7704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的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   </a:t>
            </a:r>
            <a:r>
              <a:rPr b="0" lang="zh-CN" sz="2400" spc="-1" strike="noStrike">
                <a:solidFill>
                  <a:srgbClr val="046ca6"/>
                </a:solidFill>
                <a:latin typeface="Arial"/>
                <a:ea typeface="宋体"/>
              </a:rPr>
              <a:t>同情患者，尊重患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系统指导，因人施护</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积极乐观，勤奋好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团结协作，双方共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持之以恒，耐心尽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护理中如何帮助患者实现自我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矩形 1" descr=""/>
          <p:cNvPicPr/>
          <p:nvPr/>
        </p:nvPicPr>
        <p:blipFill>
          <a:blip r:embed="rId1"/>
          <a:stretch/>
        </p:blipFill>
        <p:spPr>
          <a:xfrm>
            <a:off x="1925640" y="2724120"/>
            <a:ext cx="5297400" cy="117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一节  预防接种和健康教育伦理</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引导案例：</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程某，男，</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岁零</a:t>
            </a:r>
            <a:r>
              <a:rPr b="1" lang="en-US" sz="1600" spc="-1" strike="noStrike">
                <a:solidFill>
                  <a:srgbClr val="8ac8de"/>
                </a:solidFill>
                <a:latin typeface="Verdana"/>
                <a:ea typeface="宋体"/>
              </a:rPr>
              <a:t>4</a:t>
            </a:r>
            <a:r>
              <a:rPr b="1" lang="zh-CN" sz="1600" spc="-1" strike="noStrike">
                <a:solidFill>
                  <a:srgbClr val="8ac8de"/>
                </a:solidFill>
                <a:latin typeface="Verdana"/>
                <a:ea typeface="宋体"/>
              </a:rPr>
              <a:t>个月。于</a:t>
            </a:r>
            <a:r>
              <a:rPr b="1" lang="en-US" sz="1600" spc="-1" strike="noStrike">
                <a:solidFill>
                  <a:srgbClr val="8ac8de"/>
                </a:solidFill>
                <a:latin typeface="Verdana"/>
                <a:ea typeface="宋体"/>
              </a:rPr>
              <a:t>2014</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15</a:t>
            </a:r>
            <a:r>
              <a:rPr b="1" lang="zh-CN" sz="1600" spc="-1" strike="noStrike">
                <a:solidFill>
                  <a:srgbClr val="8ac8de"/>
                </a:solidFill>
                <a:latin typeface="Verdana"/>
                <a:ea typeface="宋体"/>
              </a:rPr>
              <a:t>日由家长带到某社区卫生服务站服用预防脊髓灰质炎的糖丸。家长听到护士叫程某的名字，即进入房间。护士准备给程某注射针剂。家长觉得奇怪，就问护士：“不是吃糖丸吗？怎么打针呢？”护士“确认”是打针无误。</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疫苗接种完成后，发现给家长的计划免疫接种卡不是程某的，而是另一个周姓孩子的。调查时，护士说，她叫的名字是周某，并非程某，看见有家长带小孩进来，没有核实姓名，就打了“麻风腮”疫苗。而程某在</a:t>
            </a:r>
            <a:r>
              <a:rPr b="1" lang="en-US" sz="1600" spc="-1" strike="noStrike">
                <a:solidFill>
                  <a:srgbClr val="8ac8de"/>
                </a:solidFill>
                <a:latin typeface="Verdana"/>
                <a:ea typeface="宋体"/>
              </a:rPr>
              <a:t>2013</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8</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26</a:t>
            </a:r>
            <a:r>
              <a:rPr b="1" lang="zh-CN" sz="1600" spc="-1" strike="noStrike">
                <a:solidFill>
                  <a:srgbClr val="8ac8de"/>
                </a:solidFill>
                <a:latin typeface="Verdana"/>
                <a:ea typeface="宋体"/>
              </a:rPr>
              <a:t>日接种过“麻风腮”疫苗。</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当日，该社区卫生服务站负责人向家长道歉，提醒家长注意孩子皮肤是否有红肿及发热等重点观察指标。所幸，孩子未有异常表现。</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a:t>
            </a:r>
            <a:r>
              <a:rPr b="1" lang="zh-CN" sz="1600" spc="-1" strike="noStrike">
                <a:solidFill>
                  <a:srgbClr val="8ac8de"/>
                </a:solidFill>
                <a:latin typeface="Verdana"/>
                <a:ea typeface="宋体"/>
              </a:rPr>
              <a:t>案例思考</a:t>
            </a:r>
            <a:r>
              <a:rPr b="1" lang="en-US" sz="1600" spc="-1" strike="noStrike">
                <a:solidFill>
                  <a:srgbClr val="8ac8de"/>
                </a:solidFill>
                <a:latin typeface="Verdana"/>
                <a:ea typeface="宋体"/>
              </a:rPr>
              <a:t>】</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护士在免疫接种时，应恪守哪些护理伦理规范？</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2</a:t>
            </a:r>
            <a:r>
              <a:rPr b="1" lang="zh-CN" sz="1600" spc="-1" strike="noStrike">
                <a:solidFill>
                  <a:srgbClr val="8ac8de"/>
                </a:solidFill>
                <a:latin typeface="Verdana"/>
                <a:ea typeface="宋体"/>
              </a:rPr>
              <a:t>．如果发生预防接种责任事故，护士如何做才能得到伦理辩护？</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523800" y="1293840"/>
            <a:ext cx="80805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及其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预防接种的概念   预防接种（</a:t>
            </a:r>
            <a:r>
              <a:rPr b="0" lang="zh-CN" sz="2400" spc="-1" strike="noStrike">
                <a:solidFill>
                  <a:srgbClr val="046ca6"/>
                </a:solidFill>
                <a:latin typeface="Arial"/>
                <a:ea typeface="宋体"/>
              </a:rPr>
              <a:t>preventive  vaccination</a:t>
            </a:r>
            <a:r>
              <a:rPr b="0" lang="zh-CN" sz="2400" spc="-1" strike="noStrike">
                <a:solidFill>
                  <a:srgbClr val="046ca6"/>
                </a:solidFill>
                <a:latin typeface="Arial"/>
                <a:ea typeface="宋体"/>
              </a:rPr>
              <a:t>）即人工免疫，是把疫苗（用人工培育并经过处理的病菌、病毒等）接种在健康人的身体内使人在不发病的情况下产生抗体，获得特异性免疫。</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预防接种的目的是什么？在医学史上，预防接种对预防和控制传染病发生和流行有什么样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828720" y="1197000"/>
            <a:ext cx="792144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的特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预防接种对象的全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效果的延缓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3</a:t>
            </a:r>
            <a:r>
              <a:rPr b="0" lang="zh-CN" sz="2800" spc="-1" strike="noStrike">
                <a:solidFill>
                  <a:srgbClr val="046ca6"/>
                </a:solidFill>
                <a:latin typeface="Arial"/>
                <a:ea typeface="宋体"/>
              </a:rPr>
              <a:t>）预防接种人员的主动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问题探讨：</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从预防接种的特点，理解居民对预防接种的积极性不高的原因；</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护理人员应该怎么做才能提高预防接种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596880" y="1700280"/>
            <a:ext cx="77202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预防接种工作对护理人员的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负责，主动热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尊重科学，实事求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团结一致，通力合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护理人员在预防接种工作中，如何恪守职业道德规范？如何处理实际工作中遇到的难题和委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762120" y="1413000"/>
            <a:ext cx="75549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健康教育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概念   健康教育（</a:t>
            </a:r>
            <a:r>
              <a:rPr b="0" lang="zh-CN" sz="2400" spc="-1" strike="noStrike">
                <a:solidFill>
                  <a:srgbClr val="046ca6"/>
                </a:solidFill>
                <a:latin typeface="Arial"/>
                <a:ea typeface="宋体"/>
              </a:rPr>
              <a:t>health education</a:t>
            </a:r>
            <a:r>
              <a:rPr b="0" lang="zh-CN" sz="2400" spc="-1" strike="noStrike">
                <a:solidFill>
                  <a:srgbClr val="046ca6"/>
                </a:solidFill>
                <a:latin typeface="Arial"/>
                <a:ea typeface="宋体"/>
              </a:rPr>
              <a:t>）是指有目的、有计划、有组织地教育活动，是在调查研究的基础上采用健康信息传播和行为干预措施，帮助个体或群体掌握卫生保健知识，树立健康意识，自愿选择健康的行为模式，消除或降低危险因素，降低发病率、伤残率和死亡率，提高生活质量的过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062000" y="1882800"/>
            <a:ext cx="6678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实质、核心和重点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本质是干预过程，护理人员如何处理干预与公民个人自由选择生活方式之间的紧张与冲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733320" y="1593720"/>
            <a:ext cx="664704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特点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对象的全民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目标的明确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内容的科学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重点有针对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方法多样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从健康教育的特点看健康教育对护理人员的道德素质、知识结构和能力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1-10T03:57:47Z</dcterms:modified>
  <cp:revision>17</cp:revision>
  <dc:subject/>
  <dc:title>社区卫生保健护理伦理</dc:title>
</cp:coreProperties>
</file>